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1A771-82CD-4991-AAE6-11F4CBBA8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789AC-497F-4E59-8CEB-E4F3B4C30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05A57-D138-41E1-BC44-C530950DB4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06DE2-37EF-4DA3-BE6A-723EB98297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B94E-B56A-422C-94DB-184E796F3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67C34-9C9A-4245-8B56-3ABEBA24E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BBA28-50F6-4EC5-BABB-74A5E82B6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C169-B6D6-4784-9D12-F0A8844CA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FB71-232F-4D2E-B3C3-9B96A292A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976FF-9940-4641-B04B-BD1F87C6E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639A8-D1BC-40FC-B7A3-DD9916B3C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2386-DACC-4643-8050-7AC60C1B8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4E1BE-54EE-4D35-AB66-CAC9E2B23D64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838080" y="91440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00"/>
                </a:solidFill>
                <a:latin typeface="Comic Sans MS - 28"/>
              </a:rPr>
              <a:t>Objective: To recognise and recall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879560" y="2158920"/>
            <a:ext cx="6327720" cy="4422960"/>
            <a:chOff x="1879560" y="2158920"/>
            <a:chExt cx="6327720" cy="4422960"/>
          </a:xfrm>
        </p:grpSpPr>
        <p:sp>
          <p:nvSpPr>
            <p:cNvPr id="43" name=""/>
            <p:cNvSpPr/>
            <p:nvPr/>
          </p:nvSpPr>
          <p:spPr>
            <a:xfrm>
              <a:off x="1879560" y="2158920"/>
              <a:ext cx="6327720" cy="4422960"/>
            </a:xfrm>
            <a:custGeom>
              <a:avLst/>
              <a:gdLst/>
              <a:ahLst/>
              <a:rect l="l" t="t" r="r" b="b"/>
              <a:pathLst>
                <a:path w="3986" h="2786">
                  <a:moveTo>
                    <a:pt x="0" y="0"/>
                  </a:moveTo>
                  <a:lnTo>
                    <a:pt x="3985" y="0"/>
                  </a:lnTo>
                  <a:lnTo>
                    <a:pt x="3985" y="2785"/>
                  </a:lnTo>
                  <a:lnTo>
                    <a:pt x="0" y="278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6e6fa"/>
            </a:solidFill>
            <a:ln w="38160">
              <a:solidFill>
                <a:srgbClr val="e6e6fa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4597560" y="3873600"/>
              <a:ext cx="1473120" cy="810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700" spc="-1" strike="noStrike">
                  <a:solidFill>
                    <a:srgbClr val="000000"/>
                  </a:solidFill>
                  <a:latin typeface="Comic Sans MS - 28"/>
                </a:rPr>
                <a:t>23</a:t>
              </a:r>
              <a:endParaRPr b="0" lang="en-US" sz="4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V="1">
              <a:off x="5435640" y="2958840"/>
              <a:ext cx="1092240" cy="9651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5016600" y="2704680"/>
              <a:ext cx="0" cy="100332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 flipH="1" flipV="1">
              <a:off x="3073320" y="3314880"/>
              <a:ext cx="1524240" cy="6984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 flipH="1">
              <a:off x="3035160" y="4711680"/>
              <a:ext cx="1549440" cy="838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965840" y="4749840"/>
              <a:ext cx="0" cy="105408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448240" y="4597560"/>
              <a:ext cx="1778040" cy="119376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 flipV="1">
              <a:off x="5486400" y="4089240"/>
              <a:ext cx="1219320" cy="190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3034800" y="4483080"/>
              <a:ext cx="1460520" cy="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sm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841400" y="1409760"/>
            <a:ext cx="701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omic Sans MS - 28"/>
              </a:rPr>
              <a:t>Find as many sums that = 23 as you 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723960" y="0"/>
            <a:ext cx="9194760" cy="9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700" spc="-1" strike="noStrike">
                <a:solidFill>
                  <a:srgbClr val="ffffe0"/>
                </a:solidFill>
                <a:latin typeface="Comic Sans MS - 16"/>
              </a:rPr>
              <a:t>The Million Dollar Prime!</a:t>
            </a:r>
            <a:endParaRPr b="0" lang="en-US" sz="5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825480" y="3568680"/>
            <a:ext cx="8510760" cy="1843200"/>
          </a:xfrm>
          <a:custGeom>
            <a:avLst/>
            <a:gdLst/>
            <a:ahLst/>
            <a:rect l="l" t="t" r="r" b="b"/>
            <a:pathLst>
              <a:path w="5361" h="1161">
                <a:moveTo>
                  <a:pt x="0" y="0"/>
                </a:moveTo>
                <a:lnTo>
                  <a:pt x="5360" y="0"/>
                </a:lnTo>
                <a:lnTo>
                  <a:pt x="5360" y="1160"/>
                </a:lnTo>
                <a:lnTo>
                  <a:pt x="0" y="1160"/>
                </a:lnTo>
                <a:lnTo>
                  <a:pt x="0" y="0"/>
                </a:lnTo>
                <a:close/>
              </a:path>
            </a:pathLst>
          </a:custGeom>
          <a:solidFill>
            <a:srgbClr val="e6e6fa"/>
          </a:solidFill>
          <a:ln w="38160">
            <a:solidFill>
              <a:srgbClr val="e6e6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571680" y="762120"/>
            <a:ext cx="9348480" cy="2109600"/>
          </a:xfrm>
          <a:custGeom>
            <a:avLst/>
            <a:gdLst/>
            <a:ahLst/>
            <a:rect l="l" t="t" r="r" b="b"/>
            <a:pathLst>
              <a:path w="5889" h="1329">
                <a:moveTo>
                  <a:pt x="0" y="0"/>
                </a:moveTo>
                <a:lnTo>
                  <a:pt x="5888" y="0"/>
                </a:lnTo>
                <a:lnTo>
                  <a:pt x="5888" y="1328"/>
                </a:lnTo>
                <a:lnTo>
                  <a:pt x="0" y="1328"/>
                </a:lnTo>
                <a:lnTo>
                  <a:pt x="0" y="0"/>
                </a:lnTo>
                <a:close/>
              </a:path>
            </a:pathLst>
          </a:custGeom>
          <a:solidFill>
            <a:srgbClr val="e6e6fa"/>
          </a:solidFill>
          <a:ln w="38160">
            <a:solidFill>
              <a:srgbClr val="e6e6f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98400" y="1015920"/>
            <a:ext cx="957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 - 28"/>
              </a:rPr>
              <a:t>A prime number has only two factor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 - 28"/>
              </a:rPr>
              <a:t>1 and the number its self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1320840" y="3809880"/>
            <a:ext cx="7873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omic Sans MS - 28"/>
              </a:rPr>
              <a:t>1 is not a prime number.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ShockwaveFlash1"/>
          <p:cNvGraphicFramePr/>
          <p:nvPr/>
        </p:nvGraphicFramePr>
        <p:xfrm>
          <a:off x="507960" y="177840"/>
          <a:ext cx="635004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960" y="177840"/>
                    <a:ext cx="635004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"/>
          <p:cNvSpPr/>
          <p:nvPr/>
        </p:nvSpPr>
        <p:spPr>
          <a:xfrm>
            <a:off x="7188120" y="571680"/>
            <a:ext cx="271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Prime Number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7315200" y="1701720"/>
            <a:ext cx="2921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Which are Prim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85800" y="63360"/>
            <a:ext cx="7404120" cy="628992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25560" y="177840"/>
            <a:ext cx="160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6- grid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480" y="2768760"/>
            <a:ext cx="941040" cy="46188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8128080" y="1155600"/>
            <a:ext cx="18288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On your 6 grid fill in all the numbers and colour all the prime numb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374920" y="241200"/>
            <a:ext cx="941400" cy="46224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90840" y="241200"/>
            <a:ext cx="941400" cy="46224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5460840" y="254160"/>
            <a:ext cx="941400" cy="461880"/>
          </a:xfrm>
          <a:custGeom>
            <a:avLst/>
            <a:gdLst/>
            <a:ahLst/>
            <a:rect l="l" t="t" r="r" b="b"/>
            <a:pathLst>
              <a:path w="593" h="291">
                <a:moveTo>
                  <a:pt x="0" y="0"/>
                </a:moveTo>
                <a:lnTo>
                  <a:pt x="592" y="0"/>
                </a:lnTo>
                <a:lnTo>
                  <a:pt x="592" y="290"/>
                </a:lnTo>
                <a:lnTo>
                  <a:pt x="0" y="290"/>
                </a:lnTo>
                <a:lnTo>
                  <a:pt x="0" y="0"/>
                </a:lnTo>
                <a:close/>
              </a:path>
            </a:pathLst>
          </a:custGeom>
          <a:solidFill>
            <a:srgbClr val="800080">
              <a:alpha val="35000"/>
            </a:srgbClr>
          </a:solidFill>
          <a:ln w="38160">
            <a:solidFill>
              <a:srgbClr val="800080">
                <a:alpha val="3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feee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054080" y="444600"/>
            <a:ext cx="8615520" cy="4408560"/>
          </a:xfrm>
          <a:custGeom>
            <a:avLst/>
            <a:gdLst/>
            <a:ahLst/>
            <a:rect l="l" t="t" r="r" b="b"/>
            <a:pathLst>
              <a:path w="5427" h="2777">
                <a:moveTo>
                  <a:pt x="0" y="0"/>
                </a:moveTo>
                <a:lnTo>
                  <a:pt x="5426" y="0"/>
                </a:lnTo>
                <a:lnTo>
                  <a:pt x="5426" y="2776"/>
                </a:lnTo>
                <a:lnTo>
                  <a:pt x="0" y="277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231920" y="723960"/>
            <a:ext cx="8991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Mathematicians are trying to find a formula to get prime number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2171880" y="2006640"/>
            <a:ext cx="5130720" cy="2385000"/>
            <a:chOff x="2171880" y="2006640"/>
            <a:chExt cx="5130720" cy="2385000"/>
          </a:xfrm>
        </p:grpSpPr>
        <p:sp>
          <p:nvSpPr>
            <p:cNvPr id="73" name=""/>
            <p:cNvSpPr/>
            <p:nvPr/>
          </p:nvSpPr>
          <p:spPr>
            <a:xfrm>
              <a:off x="4000680" y="2006640"/>
              <a:ext cx="2463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n</a:t>
              </a:r>
              <a:r>
                <a:rPr b="0" lang="en-GB" sz="1800" spc="-1" strike="noStrike" baseline="70000">
                  <a:solidFill>
                    <a:srgbClr val="000000"/>
                  </a:solidFill>
                  <a:latin typeface="Comic Sans MS - 28"/>
                </a:rPr>
                <a:t>2  </a:t>
              </a: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 - n   + 4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2286000" y="2476440"/>
              <a:ext cx="1219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n = 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025880" y="2514600"/>
              <a:ext cx="32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800" spc="-1" strike="noStrike">
                  <a:solidFill>
                    <a:srgbClr val="000000"/>
                  </a:solidFill>
                  <a:latin typeface="Comic Sans MS - 28"/>
                </a:rPr>
                <a:t>1   - 1   +  41  = 4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222640" y="3086280"/>
              <a:ext cx="1269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n = 2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987720" y="2984400"/>
              <a:ext cx="23875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4  -  2  +  41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159600" y="3022560"/>
              <a:ext cx="10922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=4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2171880" y="3886200"/>
              <a:ext cx="126972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700" spc="-1" strike="noStrike">
                  <a:solidFill>
                    <a:srgbClr val="000000"/>
                  </a:solidFill>
                  <a:latin typeface="Comic Sans MS - 28"/>
                </a:rPr>
                <a:t>n = 3</a:t>
              </a:r>
              <a:endParaRPr b="0" lang="en-US" sz="2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952560" y="5486400"/>
            <a:ext cx="589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omic Sans MS - 28"/>
              </a:rPr>
              <a:t>Mersenne Primes in attach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31:34Z</dcterms:created>
  <dc:creator>image</dc:creator>
  <dc:description/>
  <dc:language>en-US</dc:language>
  <cp:lastModifiedBy>image</cp:lastModifiedBy>
  <dcterms:modified xsi:type="dcterms:W3CDTF">2011-04-19T10:31:35Z</dcterms:modified>
  <cp:revision>1</cp:revision>
  <dc:subject/>
  <dc:title>Slide 1</dc:title>
</cp:coreProperties>
</file>